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6306-ECCC-4C84-A6B4-61D15B827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5EB-F26C-4868-8347-63C28119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1EAE-9F3C-4AD6-B6F4-03523FFF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A85A-C3A7-4ABB-A58C-696A8F73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04D-1ACB-4CB2-95BD-8FBF4A6E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7275-399B-43E5-AA13-5746AB90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B680-1A7A-4D76-A1B0-2C13691C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BC38-8586-451A-99E1-F0DF840B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5F46-8AFD-4A81-9568-CB364262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38DC-4752-45DB-955C-B5F149C8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0659-42B6-4E7D-8F0D-140D9E7E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8D09-D64B-4E6C-9E13-88ECF7D8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68F-B7BF-44CE-9C04-3CE1FC04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D336-E836-4A81-8399-FFB7D269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1C3E-F39E-4923-8D26-260ECD23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5EF5-AAFB-4BD7-9206-E561F195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A1DB-E40A-4A32-8F51-9E7531B8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A11E-8DA5-4CA8-98E1-86CFA651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B24-995E-46B0-93A1-3024E528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D0A-9A1E-4861-AEB1-E0B7DEF8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DA1-B095-4397-9A4C-568769F5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BA6-40EE-407A-8AC4-CFBE3267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3E6-2DC4-47CF-B3BF-1017668E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8C2-9B0A-4217-BBB1-5D8172A9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BF4-8B14-48CD-96C8-5186EC6A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AF0D-5148-4A78-83A4-FC2E831F24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440B-DFA6-4966-A560-E08401DD10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LEGION</cp:lastModifiedBy>
  <dcterms:modified xsi:type="dcterms:W3CDTF">2017-07-03T09:58:50Z</dcterms:modified>
  <cp:revision>8</cp:revision>
  <dc:subject/>
  <dc:title>What is culture? Standard 10.1</dc:title>
</cp:coreProperties>
</file>